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11E3-FA61-4215-8CA5-72406E505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2CAD-2098-4F2B-96BD-9C2BBCA7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F653-6EA9-4CEA-A17D-C94A45A74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8B75-2DB7-441A-866A-6A82FADF5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4CDC-2502-419F-9D10-11B76FAE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D724-DB53-4975-8908-FD775897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2DD1-F8DF-42C9-8B16-FFFE7E2D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A8CB-D448-4476-9E14-0008F3B1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1535-1583-4E9F-BBAC-59E7CD8A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841B-7B70-482C-8ABF-05494291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79C6-FE81-4C3A-A7F6-728C03CE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22FB-A466-4555-B8BA-DA5C2B65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32AE-F87E-4A26-B758-197EFC080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ロボコン九州大会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0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運営方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九州大会実行委員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45DC-0953-46C3-88BF-A0E3E212E57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方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パクトな運営を目指す。負担が少な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会場は、大学関係者の方々に依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運営は、今村さんからノウハウを教わる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事務局はＮＰＯ　ＱＵＥＳＴが主に担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費用は、ＮＰＯ　ＱＵＥＳＴに支払う。そこか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アルバイト代など支払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副運営委員長をつく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3008-4106-4D2A-B04C-99A08B842D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スケジュー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時期：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九州地区大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　　＝＞　この日以外は困難（会場都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場所：　　九州産業大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チーム数２２チーム　３月２９日現在）４月６日締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＜予定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一回技術説明会（百道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二回技術説明会（百道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一回試走会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センター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二回試走会（九州産業大学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D4F9-1E01-4A93-B039-D32475B245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実行委員会組織（案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5075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顧問：吉田市長　牛島先生、　松尾会長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C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委員長：福田先生（九大）　副：芦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技術委員長：有森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K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（＝＞技術説明会　中心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技術：甘田（ｺｱ）、赤山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TE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小田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審査委員長：岩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NE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審査：中西（九大）、久住（九大）、北須賀（熊大）、片山（宮大）、梶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L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鳥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性能審査：松下（コア）、片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運営委員長：　　今村さん＝＞　本部との連絡：芦原　＝＞　澤田先生、木下さん、　副運営委員長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対外折衝：芦原　　　＝＞　　澤田先生、木下さん　、副運営委員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実行委員間調整：芦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全体管理：芦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運営：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三宅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、中嶋（東海大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富松（電盛社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木下（沖通信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椛島（安川情報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澤田（九産大）、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藤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COS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川津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COS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事務局長：山下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事務局　原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瓜生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EST)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アルバイト、犬塚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カタログ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ティーシャツ：会場手配：本戦のときは澤田先生　会場設営指示：台本作成：　流用　参加者やり取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ボランティア：・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03CA-EEE6-4FB8-BC61-F10F3DCCBE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課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362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運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催時期の決定：９月４日、５日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明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判断（澤田先生連絡による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運営委員長の選定（今村さんからの引継ぎ）、実行委員会構成の確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事務局の強化、犬塚さ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ま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イシンコムクルーズの　近藤さんを実行委員会へ＝＞様子見（ボランティア、当日きてください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旅費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万円振り込みあり、その使用方法について合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　連絡会議　出席者　　＝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まで芦原ま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各担当から、福田、芦原、山下、岩崎・中西、甘田、有森（講師をする人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　　　　　　　　（福田、岩崎、中西、山下、甘田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審査合宿の予約　　＝＞　事務局に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福岡市への後援依頼　＝＞　本部　羽根田さんが手続き　＝＞完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承諾書＝＞連絡会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東京に持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28CE-AC8A-4AA5-909F-0D2328F4F2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技術教育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追加技術説明会（ＤＳＬ、コード評価）、追加試走会開催の計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モデル教育など　＝＞　　ＬＳＩカレッジ、ＱＵＥＳＴ教育の紹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事前教育自前化（本部からでなく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＝＞マニュアル通りの教育はできる。アドバイザで本部から呼ぶ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ロボコン用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の購入（測定用）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万？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ホームページ作成　＝＞九産大に依頼？　明日確認。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参加者写真掲載、承諾書必要。　大学（九大）にお願い、服部さん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ビデオとり：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メーリングリスト（今村さん管理から変更）　＝＞　すこしそのま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会準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司会の準備　＝＞　昨年度の南さんか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コース土台（大分県で製作予定あり、１０万円）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インターネット中継（九産大の下川先生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財産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度）ＭＣＣにあるものの整理：　ＬＳＩセンターを倉庫に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F19F-104A-44E0-90AB-1A3450E401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預金残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ロボコン九州地区実行委員会（入金口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8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に本部より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入金予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＝＞運用口座に移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ロボコン九州地区（運用口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3,0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＝＞　＋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で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　　チャンピョンシップ大会への旅費補助に使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9E6C-6C95-4058-A019-CA77D46192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04:09:54Z</dcterms:created>
  <dc:creator>nal</dc:creator>
  <dc:description/>
  <dc:language>en-US</dc:language>
  <cp:lastModifiedBy>芦原秀一</cp:lastModifiedBy>
  <dcterms:modified xsi:type="dcterms:W3CDTF">2010-03-30T00:43:17Z</dcterms:modified>
  <cp:revision>5</cp:revision>
  <dc:subject/>
  <dc:title>ETロボコン九州大会2010 運営方針</dc:title>
</cp:coreProperties>
</file>